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9E63-607E-4E15-88D7-00491C30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A764-F52D-4547-B1ED-E005AC88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B69-80F8-4776-8F39-8A7A1155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0521-C61A-4296-91D6-BB8A2B73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0C03-5DF8-44CB-A579-D9EF7EE2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2158-73AF-466C-9D9B-ECBE2B2B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237D-58B9-474F-9C49-8FEFE22F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E465-64CB-4EB7-95EA-3B5B9F4E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FC1F-3269-4E6A-93D9-08D39591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112D-7A91-44B2-89C1-1D740AFF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D8FB-65A4-4BAC-B25A-339B3E4D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6478-B5F2-4B1B-B9A7-6819524D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A1F9-C0F3-4FB0-932D-5D5F6F0A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53B5-13BE-4E92-BB6C-EE6BACE1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E6FF-15D9-45FA-B1BE-1C458D5F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C090-9521-41A5-B715-EAFC9F2F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86CC-B525-474E-932B-171F8224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3F0-87D4-47E4-AC40-79822C45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18F6-0A6C-45E8-8F51-4FC17150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225F-9417-4C76-BA10-5F030F2F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4CC3-A83C-4844-8125-0F997D6B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683A-F424-45DA-97E7-2753A7AF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7FFE-9114-4C30-945E-2D468053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5512-A7E0-4501-89ED-F0EA84D7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D0AF-9E59-4F5D-B884-FABAF03BA35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AA9E-0F7C-4E2C-A11E-83BC6533C1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6A4D-D12A-4F7A-82AF-7ED9057D427B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5105-6B42-42E5-BA1E-247FEA965446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30"/>
          <p:cNvSpPr txBox="1"/>
          <p:nvPr/>
        </p:nvSpPr>
        <p:spPr>
          <a:xfrm>
            <a:off x="228600" y="0"/>
            <a:ext cx="8915400" cy="655308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ffcc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Monotype Corsiva"/>
              </a:rPr>
              <a:t>Основные </a:t>
            </a:r>
            <a:endParaRPr b="1" lang="en-US" sz="6600" spc="1" strike="noStrike">
              <a:ln w="12600">
                <a:solidFill>
                  <a:srgbClr val="ffcc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ffcc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Corsiva"/>
              </a:rPr>
              <a:t>классы </a:t>
            </a:r>
            <a:endParaRPr b="1" lang="en-US" sz="6600" spc="1" strike="noStrike">
              <a:ln w="12600">
                <a:solidFill>
                  <a:srgbClr val="ffcc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ffcc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Monotype Corsiva"/>
              </a:rPr>
              <a:t>неорганических </a:t>
            </a:r>
            <a:endParaRPr b="1" lang="en-US" sz="6600" spc="1" strike="noStrike">
              <a:ln w="12600">
                <a:solidFill>
                  <a:srgbClr val="ffcc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ffcc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Monotype Corsiva"/>
              </a:rPr>
              <a:t>соединений</a:t>
            </a:r>
            <a:endParaRPr b="1" lang="en-US" sz="6600" spc="1" strike="noStrike">
              <a:ln w="12600">
                <a:solidFill>
                  <a:srgbClr val="ffcc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D9A5-EA69-4480-A66A-62974F967D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заимодействие простых веществ и солей с кислотами-окислителями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имеры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 + 4H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(р-р)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—›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 4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;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 +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H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(конц.)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—›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Cu(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)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 2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 + 2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;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a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+ 2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—›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NaH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+ 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  <a:ea typeface="Arial"/>
              </a:rPr>
              <a:t>⁭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O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0729-6866-4927-9ABB-7B98605587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3311280" cy="4967640"/>
          </a:xfrm>
          <a:prstGeom prst="rect">
            <a:avLst/>
          </a:prstGeom>
          <a:ln w="0">
            <a:noFill/>
          </a:ln>
        </p:spPr>
      </p:pic>
      <p:sp>
        <p:nvSpPr>
          <p:cNvPr id="165" name="WordArt 11"/>
          <p:cNvSpPr txBox="1"/>
          <p:nvPr/>
        </p:nvSpPr>
        <p:spPr>
          <a:xfrm>
            <a:off x="0" y="5486400"/>
            <a:ext cx="9144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Получение оксидов металлов </a:t>
            </a:r>
            <a:endParaRPr b="1" i="1" lang="en-US" sz="24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 Black"/>
              </a:rPr>
              <a:t>(установка)</a:t>
            </a:r>
            <a:endParaRPr b="1" i="1" lang="en-US" sz="24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1614-8DAC-4228-9114-331B2F4F5F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заимодействие пероксида бария с разбавленной серной кислотой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римеры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+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—›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BaS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+ 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заимодействие надсерной кислоты с водой. Примеры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+ 2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—›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+ 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заимодействие азота с водой.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римеры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+ 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—›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еакция, протекающая при действии электрического разряда на воду.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   Примеры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—</a:t>
            </a:r>
            <a:r>
              <a:rPr b="0" lang="ru-RU" sz="3200" spc="-1" strike="noStrike" baseline="30000">
                <a:solidFill>
                  <a:srgbClr val="ffffcc"/>
                </a:solidFill>
                <a:latin typeface="Times New Roman"/>
              </a:rPr>
              <a:t>разряд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›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 </a:t>
            </a:r>
            <a:r>
              <a:rPr b="0" lang="ru-RU" sz="2800" spc="-1" strike="noStrike" baseline="-25000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/2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WordArt 3"/>
          <p:cNvSpPr txBox="1"/>
          <p:nvPr/>
        </p:nvSpPr>
        <p:spPr>
          <a:xfrm>
            <a:off x="685800" y="533520"/>
            <a:ext cx="75438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Получение пероксида водорода</a:t>
            </a:r>
            <a:endParaRPr b="1" i="1" lang="en-US" sz="24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D43C-F5A2-4B33-BFB6-723133079E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C:\МАРИЯ\peroxid.jpg"/>
          <p:cNvPicPr/>
          <p:nvPr/>
        </p:nvPicPr>
        <p:blipFill>
          <a:blip r:embed="rId1"/>
          <a:stretch/>
        </p:blipFill>
        <p:spPr>
          <a:xfrm>
            <a:off x="3059280" y="1628640"/>
            <a:ext cx="3136680" cy="2695680"/>
          </a:xfrm>
          <a:prstGeom prst="rect">
            <a:avLst/>
          </a:prstGeom>
          <a:ln w="0">
            <a:noFill/>
          </a:ln>
        </p:spPr>
      </p:pic>
      <p:sp>
        <p:nvSpPr>
          <p:cNvPr id="169" name="WordArt 7"/>
          <p:cNvSpPr txBox="1"/>
          <p:nvPr/>
        </p:nvSpPr>
        <p:spPr>
          <a:xfrm>
            <a:off x="838080" y="5867280"/>
            <a:ext cx="7543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Получение пероксида водорода</a:t>
            </a:r>
            <a:endParaRPr b="1" i="1" lang="en-US" sz="24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CCD-2F9D-46BB-A5CE-DCE62A38EF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C:\МАРИЯ\i пероксид водорода.jpg"/>
          <p:cNvPicPr/>
          <p:nvPr/>
        </p:nvPicPr>
        <p:blipFill>
          <a:blip r:embed="rId1"/>
          <a:stretch/>
        </p:blipFill>
        <p:spPr>
          <a:xfrm>
            <a:off x="2700360" y="1197000"/>
            <a:ext cx="3652920" cy="25462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171" name="WordArt 6"/>
          <p:cNvSpPr txBox="1"/>
          <p:nvPr/>
        </p:nvSpPr>
        <p:spPr>
          <a:xfrm>
            <a:off x="0" y="5486400"/>
            <a:ext cx="91440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Пероксид водорода</a:t>
            </a:r>
            <a:endParaRPr b="1" i="1" lang="en-US" sz="24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2C1-66E6-4840-842F-820FEED785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9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Разложение.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Пример: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  <a:ea typeface="Arial"/>
              </a:rPr>
              <a:t>—›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H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ＭＳ Ｐゴシック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O + 1/2O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ＭＳ Ｐゴシック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;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Окисление.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      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Пример: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PbS + 4H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ＭＳ Ｐゴシック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O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ＭＳ Ｐゴシック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—›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PbSO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+ 4H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O;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Восстановление. 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 Пример: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2KMnO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+ 5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 3H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  <a:ea typeface="Arial"/>
              </a:rPr>
              <a:t>—›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  <a:ea typeface="Arial"/>
              </a:rPr>
              <a:t>—›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K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SO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+ 2MnSO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+ 5O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+ 8H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O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WordArt 3"/>
          <p:cNvSpPr txBox="1"/>
          <p:nvPr/>
        </p:nvSpPr>
        <p:spPr>
          <a:xfrm>
            <a:off x="685800" y="533520"/>
            <a:ext cx="75438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Химические свойства пероксида водорода</a:t>
            </a:r>
            <a:endParaRPr b="1" i="1" lang="en-US" sz="24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F5B8-3656-47FA-9C9A-9815AEE7E8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603360" y="19080"/>
            <a:ext cx="7785000" cy="2327400"/>
          </a:xfrm>
          <a:prstGeom prst="rect">
            <a:avLst/>
          </a:prstGeom>
          <a:ln w="0">
            <a:noFill/>
          </a:ln>
        </p:spPr>
      </p:pic>
      <p:pic>
        <p:nvPicPr>
          <p:cNvPr id="175" name="Содержимое 3" descr="img002.gif"/>
          <p:cNvPicPr/>
          <p:nvPr/>
        </p:nvPicPr>
        <p:blipFill>
          <a:blip r:embed="rId2"/>
          <a:stretch/>
        </p:blipFill>
        <p:spPr>
          <a:xfrm>
            <a:off x="1258920" y="2997360"/>
            <a:ext cx="6756480" cy="147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75C-E220-45F9-A6D7-803F5C573C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Monotype Corsiva"/>
              </a:rPr>
              <a:t>Пример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1.      металл + неметалл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&gt;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 сол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g + S ® H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Al + 3I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 ® 2AlI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      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сновной оксид + кислотный оксид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&gt;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 соль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 + C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® Li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O + Si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 ® CaSi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7BB-A89C-499E-9486-0B5CE3364B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3.      основание + кислота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&gt;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 сол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(OH)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 2HCl ® CuCl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 2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eCl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3H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&gt;Fe(N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+3HC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4.      металл 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&gt;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 основной окси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 + 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 ® 2Ca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Li + 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 ® 2Li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EEF3-EFD9-4850-BBC4-A60E2804D2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5.      неметалл -&gt; кислотный окси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S + O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 ® SO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4As + 5O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 ® 2As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6.      основной оксид -&gt; основани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BaO + H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O ® Ba(OH)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Li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O + H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O ® 2LiO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C687-C35A-4524-A275-BB22A08F8D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10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Классификация неорганических веществ;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just">
              <a:spcBef>
                <a:spcPts val="10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Классификация оксидов;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just">
              <a:spcBef>
                <a:spcPts val="10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олучение оксидов;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just">
              <a:spcBef>
                <a:spcPts val="10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олучение пероксида водорода;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just">
              <a:spcBef>
                <a:spcPts val="1001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Химические свойства пероксида водорода.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914400" y="380880"/>
            <a:ext cx="7543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Содержание:</a:t>
            </a:r>
            <a:endParaRPr b="1" i="1" lang="en-US" sz="24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B869-9434-450B-8CC1-B2B317F01B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7.      кислотный оксид -&gt; кислот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5 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+ 3H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O ® 2H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PO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SO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 + H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O ® H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SO</a:t>
            </a:r>
            <a:r>
              <a:rPr b="0" lang="pt-BR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8967-C182-4896-89C8-462E229CCD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5"/>
          <p:cNvSpPr txBox="1"/>
          <p:nvPr/>
        </p:nvSpPr>
        <p:spPr>
          <a:xfrm>
            <a:off x="380880" y="457200"/>
            <a:ext cx="838224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Классификация неорганических веществ</a:t>
            </a:r>
            <a:endParaRPr b="1" i="1" lang="en-US" sz="24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grpSp>
        <p:nvGrpSpPr>
          <p:cNvPr id="104" name="Group 38"/>
          <p:cNvGrpSpPr/>
          <p:nvPr/>
        </p:nvGrpSpPr>
        <p:grpSpPr>
          <a:xfrm>
            <a:off x="193680" y="1752480"/>
            <a:ext cx="8721720" cy="4648320"/>
            <a:chOff x="193680" y="1752480"/>
            <a:chExt cx="8721720" cy="4648320"/>
          </a:xfrm>
        </p:grpSpPr>
        <p:sp>
          <p:nvSpPr>
            <p:cNvPr id="105" name="Text Box 7"/>
            <p:cNvSpPr/>
            <p:nvPr/>
          </p:nvSpPr>
          <p:spPr>
            <a:xfrm>
              <a:off x="1066680" y="1752480"/>
              <a:ext cx="1428840" cy="738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ростые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3144960" y="1752480"/>
              <a:ext cx="2801880" cy="738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еорганические вещества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6408720" y="1752480"/>
              <a:ext cx="1440000" cy="738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ложные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Text Box 13"/>
            <p:cNvSpPr/>
            <p:nvPr/>
          </p:nvSpPr>
          <p:spPr>
            <a:xfrm>
              <a:off x="193680" y="4724280"/>
              <a:ext cx="1582560" cy="657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Металлы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2050920" y="4724280"/>
              <a:ext cx="1582920" cy="657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еметаллы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" name="Text Box 17"/>
            <p:cNvSpPr/>
            <p:nvPr/>
          </p:nvSpPr>
          <p:spPr>
            <a:xfrm>
              <a:off x="4419720" y="3227400"/>
              <a:ext cx="1619280" cy="657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ксиды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" name="Text Box 21"/>
            <p:cNvSpPr/>
            <p:nvPr/>
          </p:nvSpPr>
          <p:spPr>
            <a:xfrm>
              <a:off x="7988400" y="3209760"/>
              <a:ext cx="927000" cy="655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оли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6248520" y="5745240"/>
              <a:ext cx="1619280" cy="655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ислоты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Text Box 26"/>
            <p:cNvSpPr/>
            <p:nvPr/>
          </p:nvSpPr>
          <p:spPr>
            <a:xfrm>
              <a:off x="4419720" y="4276800"/>
              <a:ext cx="1619280" cy="655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снования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4" name="Group 35"/>
            <p:cNvGrpSpPr/>
            <p:nvPr/>
          </p:nvGrpSpPr>
          <p:grpSpPr>
            <a:xfrm>
              <a:off x="762120" y="2117880"/>
              <a:ext cx="7226280" cy="3627000"/>
              <a:chOff x="762120" y="2117880"/>
              <a:chExt cx="7226280" cy="3627000"/>
            </a:xfrm>
          </p:grpSpPr>
          <p:sp>
            <p:nvSpPr>
              <p:cNvPr id="115" name="Line 10"/>
              <p:cNvSpPr/>
              <p:nvPr/>
            </p:nvSpPr>
            <p:spPr>
              <a:xfrm flipH="1">
                <a:off x="762120" y="2463120"/>
                <a:ext cx="984240" cy="22402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6" name="Line 12"/>
              <p:cNvSpPr/>
              <p:nvPr/>
            </p:nvSpPr>
            <p:spPr>
              <a:xfrm>
                <a:off x="2343240" y="2144880"/>
                <a:ext cx="801720" cy="144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7" name="Line 15"/>
              <p:cNvSpPr/>
              <p:nvPr/>
            </p:nvSpPr>
            <p:spPr>
              <a:xfrm>
                <a:off x="6583320" y="2463120"/>
                <a:ext cx="1800" cy="12222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" name="Line 16"/>
              <p:cNvSpPr/>
              <p:nvPr/>
            </p:nvSpPr>
            <p:spPr>
              <a:xfrm flipH="1">
                <a:off x="6035400" y="3685320"/>
                <a:ext cx="547560" cy="36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19" name="Group 18"/>
              <p:cNvGrpSpPr/>
              <p:nvPr/>
            </p:nvGrpSpPr>
            <p:grpSpPr>
              <a:xfrm>
                <a:off x="7440480" y="2463120"/>
                <a:ext cx="547920" cy="1222200"/>
                <a:chOff x="7440480" y="2463120"/>
                <a:chExt cx="547920" cy="1222200"/>
              </a:xfrm>
            </p:grpSpPr>
            <p:sp>
              <p:nvSpPr>
                <p:cNvPr id="120" name="Line 19"/>
                <p:cNvSpPr/>
                <p:nvPr/>
              </p:nvSpPr>
              <p:spPr>
                <a:xfrm>
                  <a:off x="7440480" y="2463120"/>
                  <a:ext cx="0" cy="1222200"/>
                </a:xfrm>
                <a:prstGeom prst="line">
                  <a:avLst/>
                </a:prstGeom>
                <a:ln w="284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 flipH="1">
                  <a:off x="7440480" y="3685320"/>
                  <a:ext cx="547920" cy="0"/>
                </a:xfrm>
                <a:prstGeom prst="line">
                  <a:avLst/>
                </a:prstGeom>
                <a:ln w="284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Line 24"/>
              <p:cNvSpPr/>
              <p:nvPr/>
            </p:nvSpPr>
            <p:spPr>
              <a:xfrm>
                <a:off x="6824520" y="2463120"/>
                <a:ext cx="1800" cy="222768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" name="Line 25"/>
              <p:cNvSpPr/>
              <p:nvPr/>
            </p:nvSpPr>
            <p:spPr>
              <a:xfrm flipH="1">
                <a:off x="6035400" y="4690800"/>
                <a:ext cx="788760" cy="360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" name="Line 27"/>
              <p:cNvSpPr/>
              <p:nvPr/>
            </p:nvSpPr>
            <p:spPr>
              <a:xfrm>
                <a:off x="5994360" y="2117880"/>
                <a:ext cx="40788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" name="Line 32"/>
              <p:cNvSpPr/>
              <p:nvPr/>
            </p:nvSpPr>
            <p:spPr>
              <a:xfrm>
                <a:off x="7086600" y="2446560"/>
                <a:ext cx="0" cy="32983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" name="Line 34"/>
              <p:cNvSpPr/>
              <p:nvPr/>
            </p:nvSpPr>
            <p:spPr>
              <a:xfrm>
                <a:off x="1752480" y="2446560"/>
                <a:ext cx="1143000" cy="234324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13FF-92C6-4863-9FDD-04E024E541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74"/>
          <p:cNvGrpSpPr/>
          <p:nvPr/>
        </p:nvGrpSpPr>
        <p:grpSpPr>
          <a:xfrm>
            <a:off x="304920" y="1371600"/>
            <a:ext cx="8534160" cy="5187960"/>
            <a:chOff x="304920" y="1371600"/>
            <a:chExt cx="8534160" cy="5187960"/>
          </a:xfrm>
        </p:grpSpPr>
        <p:sp>
          <p:nvSpPr>
            <p:cNvPr id="128" name="Line 50"/>
            <p:cNvSpPr/>
            <p:nvPr/>
          </p:nvSpPr>
          <p:spPr>
            <a:xfrm>
              <a:off x="4902120" y="3097080"/>
              <a:ext cx="2570400" cy="231624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29" name="Group 73"/>
            <p:cNvGrpSpPr/>
            <p:nvPr/>
          </p:nvGrpSpPr>
          <p:grpSpPr>
            <a:xfrm>
              <a:off x="1671120" y="1857240"/>
              <a:ext cx="6036120" cy="4267440"/>
              <a:chOff x="1671120" y="1857240"/>
              <a:chExt cx="6036120" cy="4267440"/>
            </a:xfrm>
          </p:grpSpPr>
          <p:sp>
            <p:nvSpPr>
              <p:cNvPr id="130" name="Line 54"/>
              <p:cNvSpPr/>
              <p:nvPr/>
            </p:nvSpPr>
            <p:spPr>
              <a:xfrm>
                <a:off x="3301920" y="1857240"/>
                <a:ext cx="1270080" cy="40500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" name="Line 53"/>
              <p:cNvSpPr/>
              <p:nvPr/>
            </p:nvSpPr>
            <p:spPr>
              <a:xfrm flipV="1">
                <a:off x="4571280" y="1859760"/>
                <a:ext cx="1269720" cy="39996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" name="Line 52"/>
              <p:cNvSpPr/>
              <p:nvPr/>
            </p:nvSpPr>
            <p:spPr>
              <a:xfrm>
                <a:off x="4572000" y="2286000"/>
                <a:ext cx="0" cy="72396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" name="Line 51"/>
              <p:cNvSpPr/>
              <p:nvPr/>
            </p:nvSpPr>
            <p:spPr>
              <a:xfrm flipH="1">
                <a:off x="1671120" y="3097080"/>
                <a:ext cx="2505240" cy="216216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" name="Freeform 49"/>
              <p:cNvSpPr/>
              <p:nvPr/>
            </p:nvSpPr>
            <p:spPr>
              <a:xfrm>
                <a:off x="2419200" y="4632480"/>
                <a:ext cx="606600" cy="626760"/>
              </a:xfrm>
              <a:custGeom>
                <a:avLst/>
                <a:gdLst>
                  <a:gd name="textAreaLeft" fmla="*/ 0 w 606600"/>
                  <a:gd name="textAreaRight" fmla="*/ 606960 w 606600"/>
                  <a:gd name="textAreaTop" fmla="*/ 0 h 626760"/>
                  <a:gd name="textAreaBottom" fmla="*/ 627120 h 626760"/>
                </a:gdLst>
                <a:ahLst/>
                <a:rect l="textAreaLeft" t="textAreaTop" r="textAreaRight" b="textAreaBottom"/>
                <a:pathLst>
                  <a:path w="1067" h="1115">
                    <a:moveTo>
                      <a:pt x="0" y="0"/>
                    </a:moveTo>
                    <a:lnTo>
                      <a:pt x="1067" y="1115"/>
                    </a:lnTo>
                  </a:path>
                </a:pathLst>
              </a:custGeom>
              <a:solidFill>
                <a:srgbClr val="ffffcc"/>
              </a:solidFill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" name="Line 48"/>
              <p:cNvSpPr/>
              <p:nvPr/>
            </p:nvSpPr>
            <p:spPr>
              <a:xfrm>
                <a:off x="2419200" y="4632480"/>
                <a:ext cx="0" cy="149220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" name="Line 47"/>
              <p:cNvSpPr/>
              <p:nvPr/>
            </p:nvSpPr>
            <p:spPr>
              <a:xfrm>
                <a:off x="5840280" y="4394160"/>
                <a:ext cx="186696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7" name="Line 46"/>
              <p:cNvSpPr/>
              <p:nvPr/>
            </p:nvSpPr>
            <p:spPr>
              <a:xfrm flipH="1">
                <a:off x="5502240" y="4394160"/>
                <a:ext cx="922320" cy="101916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8" name="Text Box 44"/>
            <p:cNvSpPr/>
            <p:nvPr/>
          </p:nvSpPr>
          <p:spPr>
            <a:xfrm>
              <a:off x="4532400" y="2181240"/>
              <a:ext cx="30542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по типу химической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связи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Text Box 43"/>
            <p:cNvSpPr/>
            <p:nvPr/>
          </p:nvSpPr>
          <p:spPr>
            <a:xfrm>
              <a:off x="852480" y="3476520"/>
              <a:ext cx="240336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по составу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Text Box 42"/>
            <p:cNvSpPr/>
            <p:nvPr/>
          </p:nvSpPr>
          <p:spPr>
            <a:xfrm>
              <a:off x="5784840" y="3233880"/>
              <a:ext cx="30178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по кислотно-основным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свойствам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Text Box 41"/>
            <p:cNvSpPr/>
            <p:nvPr/>
          </p:nvSpPr>
          <p:spPr>
            <a:xfrm>
              <a:off x="3124080" y="4146480"/>
              <a:ext cx="2670120" cy="585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0011"/>
                  </a:solidFill>
                  <a:latin typeface="Arial"/>
                  <a:ea typeface="ＭＳ Ｐゴシック"/>
                </a:rPr>
                <a:t>Безразличные (несолеобразующие)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Text Box 40"/>
            <p:cNvSpPr/>
            <p:nvPr/>
          </p:nvSpPr>
          <p:spPr>
            <a:xfrm>
              <a:off x="1301760" y="1371600"/>
              <a:ext cx="1954080" cy="460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0011"/>
                  </a:solidFill>
                  <a:latin typeface="Arial"/>
                  <a:ea typeface="ＭＳ Ｐゴシック"/>
                </a:rPr>
                <a:t>Ковалентные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Text Box 39"/>
            <p:cNvSpPr/>
            <p:nvPr/>
          </p:nvSpPr>
          <p:spPr>
            <a:xfrm>
              <a:off x="5794200" y="1371600"/>
              <a:ext cx="1954440" cy="460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0011"/>
                  </a:solidFill>
                  <a:latin typeface="Arial"/>
                  <a:ea typeface="ＭＳ Ｐゴシック"/>
                </a:rPr>
                <a:t>Ионные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Text Box 38"/>
            <p:cNvSpPr/>
            <p:nvPr/>
          </p:nvSpPr>
          <p:spPr>
            <a:xfrm>
              <a:off x="3502080" y="2889360"/>
              <a:ext cx="1954080" cy="460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0011"/>
                  </a:solidFill>
                  <a:latin typeface="Arial"/>
                  <a:ea typeface="ＭＳ Ｐゴシック"/>
                </a:rPr>
                <a:t>Оксиды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" name="Text Box 37"/>
            <p:cNvSpPr/>
            <p:nvPr/>
          </p:nvSpPr>
          <p:spPr>
            <a:xfrm>
              <a:off x="7229520" y="4148280"/>
              <a:ext cx="1609560" cy="460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0011"/>
                  </a:solidFill>
                  <a:latin typeface="Arial"/>
                  <a:ea typeface="ＭＳ Ｐゴシック"/>
                </a:rPr>
                <a:t>Основные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Text Box 36"/>
            <p:cNvSpPr/>
            <p:nvPr/>
          </p:nvSpPr>
          <p:spPr>
            <a:xfrm>
              <a:off x="4611600" y="5257800"/>
              <a:ext cx="1765440" cy="428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0011"/>
                  </a:solidFill>
                  <a:latin typeface="Arial"/>
                  <a:ea typeface="ＭＳ Ｐゴシック"/>
                </a:rPr>
                <a:t>Амфотерные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Text Box 35"/>
            <p:cNvSpPr/>
            <p:nvPr/>
          </p:nvSpPr>
          <p:spPr>
            <a:xfrm>
              <a:off x="6740640" y="5257800"/>
              <a:ext cx="1706400" cy="428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0011"/>
                  </a:solidFill>
                  <a:latin typeface="Arial"/>
                  <a:ea typeface="ＭＳ Ｐゴシック"/>
                </a:rPr>
                <a:t>Кислотные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Text Box 34"/>
            <p:cNvSpPr/>
            <p:nvPr/>
          </p:nvSpPr>
          <p:spPr>
            <a:xfrm>
              <a:off x="304920" y="5257800"/>
              <a:ext cx="1844640" cy="436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0011"/>
                  </a:solidFill>
                  <a:latin typeface="Arial"/>
                  <a:ea typeface="ＭＳ Ｐゴシック"/>
                </a:rPr>
                <a:t>Нормальные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2639880" y="5257800"/>
              <a:ext cx="1737000" cy="436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0011"/>
                  </a:solidFill>
                  <a:latin typeface="Arial"/>
                  <a:ea typeface="ＭＳ Ｐゴシック"/>
                </a:rPr>
                <a:t>Пероксиды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Text Box 32"/>
            <p:cNvSpPr/>
            <p:nvPr/>
          </p:nvSpPr>
          <p:spPr>
            <a:xfrm>
              <a:off x="1515960" y="6148440"/>
              <a:ext cx="1763640" cy="411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20011"/>
                  </a:solidFill>
                  <a:latin typeface="Arial"/>
                  <a:ea typeface="ＭＳ Ｐゴシック"/>
                </a:rPr>
                <a:t>Смешанные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WordArt 71"/>
          <p:cNvSpPr txBox="1"/>
          <p:nvPr/>
        </p:nvSpPr>
        <p:spPr>
          <a:xfrm>
            <a:off x="380880" y="457200"/>
            <a:ext cx="8382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Классификация оксидов</a:t>
            </a:r>
            <a:endParaRPr b="1" i="1" lang="en-US" sz="32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6D14-9FF1-472F-A736-C8F4772D69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Нормальные оксиды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– оксиды, в которых есть только связи между кислородом и каким-нибудь элементом. Примеры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gO, S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Si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Пероксиды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– оксиды, в которых есть связи между двумя атомами кислорода. Примеры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Смешанные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оксиды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– оксиды, которые представляют собой смесь двух одного элемента в разных степенях окисления. Примеры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b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= 2PbO + Pb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;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e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= FeO + Fe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Кислотные оксиды (ангидриды)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– оксиды, которые реагируют с водой, образуя кислоты; с основаниями и основными оксидами образуют соли. Примеры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S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Mn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7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WordArt 26"/>
          <p:cNvSpPr txBox="1"/>
          <p:nvPr/>
        </p:nvSpPr>
        <p:spPr>
          <a:xfrm>
            <a:off x="914400" y="380880"/>
            <a:ext cx="7543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Классификация оксидов</a:t>
            </a:r>
            <a:endParaRPr b="1" i="1" lang="en-US" sz="24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F24-6604-455D-A6E9-4CF9D0057F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Основные оксиды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– оксиды, которые реагируют с водой, образуя основания; с кислотами и кислотными оксидами образуют соли. Примеры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O, Na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Амфотерные оксиды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– оксиды, которые в зависимости от условий проявляют свойства и кислотных, и основных оксидов. Примеры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ZnO, Al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Безразличные (несолеобразующие) оксиды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– оксиды, которые не реагируют ни с кислотами, ни с основаниями. Солей не образуют. Примеры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, N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914400" y="380880"/>
            <a:ext cx="7543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Классификация оксидов</a:t>
            </a:r>
            <a:endParaRPr b="1" i="1" lang="en-US" sz="24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3141-5728-4248-B38B-C6FC71DF8E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6" descr="C:\МАРИЯ\magnezit_s(Оксид хрома и периклаз).gif"/>
          <p:cNvPicPr/>
          <p:nvPr/>
        </p:nvPicPr>
        <p:blipFill>
          <a:blip r:embed="rId1"/>
          <a:stretch/>
        </p:blipFill>
        <p:spPr>
          <a:xfrm>
            <a:off x="2050920" y="1052640"/>
            <a:ext cx="5241960" cy="3493800"/>
          </a:xfrm>
          <a:prstGeom prst="rect">
            <a:avLst/>
          </a:prstGeom>
          <a:ln w="0">
            <a:noFill/>
          </a:ln>
        </p:spPr>
      </p:pic>
      <p:sp>
        <p:nvSpPr>
          <p:cNvPr id="157" name="WordArt 27"/>
          <p:cNvSpPr txBox="1"/>
          <p:nvPr/>
        </p:nvSpPr>
        <p:spPr>
          <a:xfrm>
            <a:off x="685800" y="5410080"/>
            <a:ext cx="7543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Оксид хрома и периклаз</a:t>
            </a:r>
            <a:endParaRPr b="1" i="1" lang="en-US" sz="24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07AB-798B-4D90-A5D9-0EC86D8EB8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3"/>
          <p:cNvSpPr txBox="1"/>
          <p:nvPr/>
        </p:nvSpPr>
        <p:spPr>
          <a:xfrm>
            <a:off x="609480" y="5486400"/>
            <a:ext cx="7543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Циркон</a:t>
            </a:r>
            <a:endParaRPr b="1" i="1" lang="en-US" sz="24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pic>
        <p:nvPicPr>
          <p:cNvPr id="159" name="Picture 5" descr="C:\МАРИЯ\zirkon.gif"/>
          <p:cNvPicPr/>
          <p:nvPr/>
        </p:nvPicPr>
        <p:blipFill>
          <a:blip r:embed="rId3"/>
          <a:stretch/>
        </p:blipFill>
        <p:spPr>
          <a:xfrm>
            <a:off x="1619280" y="907920"/>
            <a:ext cx="5670360" cy="388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71DC-59FD-426B-9F86-4397F3BA93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заимодействие простых веществ с кислородом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имеры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 + 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—›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; 4Al + 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—›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2Al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Термическое разложение оснований, солей, кислот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имеры: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C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—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t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›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CaO + C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  <a:ea typeface="Arial"/>
              </a:rPr>
              <a:t>⁭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;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2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B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—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t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›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B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  <a:ea typeface="Arial"/>
              </a:rPr>
              <a:t>⁭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; Mg(OH)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—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t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›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MgO 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O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685800" y="533520"/>
            <a:ext cx="75438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Получение оксидов</a:t>
            </a:r>
            <a:endParaRPr b="1" i="1" lang="en-US" sz="2400" spc="1" strike="noStrike">
              <a:ln w="1908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F1F6-A7F2-4B92-BDAE-23EF81680D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7:22:55Z</dcterms:created>
  <dc:creator>Шикунова М.М.</dc:creator>
  <dc:description/>
  <dc:language>en-US</dc:language>
  <cp:lastModifiedBy>Student</cp:lastModifiedBy>
  <dcterms:modified xsi:type="dcterms:W3CDTF">2013-05-02T10:24:11Z</dcterms:modified>
  <cp:revision>29</cp:revision>
  <dc:subject/>
  <dc:title>Презентация PowerPoint</dc:title>
</cp:coreProperties>
</file>